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8EBB-445B-4F24-8323-4211CD520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4928-AB1A-4DA7-8661-D291DF5D7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7210-EB8C-4845-9FAA-A1054246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322C-9443-4869-B8FF-AF6B2994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598D-1432-4F87-AFB6-FA29B3B3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B68A-B081-493E-99B0-A81EFFFB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D00-D061-40BA-BDEF-0BE83845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9609-E645-40B8-BF58-058509FA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2AD9-01B6-428C-93F5-7E9A848A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DD4-8B0F-422A-8E3D-54D322A1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1191-EDF4-43CB-AAED-BE8C5C70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74F8-B009-4527-B516-4C92DAD9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B25B-B5E2-4F2F-B7D8-E321C022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D82-B5F7-4F1A-A9CE-A193D680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87A3-AD8B-4A81-8F9D-8AA80776B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3B91-81B3-4BD2-8C5A-B5560DEF9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IT’S NEVER TOO EAR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3399"/>
                </a:solidFill>
                <a:uFillTx/>
                <a:latin typeface="Arial"/>
              </a:rPr>
              <a:t>Strategies to empower children and inspire their student voice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100_2013"/>
          <p:cNvPicPr/>
          <p:nvPr/>
        </p:nvPicPr>
        <p:blipFill>
          <a:blip r:embed="rId1"/>
          <a:stretch/>
        </p:blipFill>
        <p:spPr>
          <a:xfrm>
            <a:off x="3733920" y="2514600"/>
            <a:ext cx="4572000" cy="3298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28600" y="2666880"/>
            <a:ext cx="327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y Ruth Town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nd/3rd Grade Tea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tsburg Elementary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tsburg, 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BFA4-1709-4E54-9D6C-2D7A3B672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Examine Issues Co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T QUESTION TO ALWAYS ASK DURING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do about this problem” 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uld you call to help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00_029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18DF-A7B5-4CB6-83A6-877C990B5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Reflecting on Examining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….How many problems and solutions have you thought of….what were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NG out problems and possible solut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, WRITE, WRITE AGAI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00_0007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BA1D-8B3B-4481-8AD0-917DBF33D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STEP 3: Agree on a projec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: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change, Share, Respec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100_0038"/>
          <p:cNvPicPr/>
          <p:nvPr/>
        </p:nvPicPr>
        <p:blipFill>
          <a:blip r:embed="rId1"/>
          <a:stretch/>
        </p:blipFill>
        <p:spPr>
          <a:xfrm>
            <a:off x="4495680" y="1219320"/>
            <a:ext cx="4114800" cy="218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100_0856"/>
          <p:cNvPicPr/>
          <p:nvPr/>
        </p:nvPicPr>
        <p:blipFill>
          <a:blip r:embed="rId2"/>
          <a:stretch/>
        </p:blipFill>
        <p:spPr>
          <a:xfrm>
            <a:off x="685800" y="3276720"/>
            <a:ext cx="3352680" cy="3047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100_2546"/>
          <p:cNvPicPr/>
          <p:nvPr/>
        </p:nvPicPr>
        <p:blipFill>
          <a:blip r:embed="rId3"/>
          <a:stretch/>
        </p:blipFill>
        <p:spPr>
          <a:xfrm>
            <a:off x="4495680" y="3581280"/>
            <a:ext cx="419112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32CA-3B7C-4B88-88C7-956082881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Agree on a projec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 TO BE A TEAM FIRST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TEAMWORK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CHE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QUIL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02_0623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5FDD-E416-41C6-9518-937334301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Agree on a project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the class how to take an official vot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graph named “MOST IMPORTANT PROBLEM TO TACKL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, LEAVE THE ROOM…return when they have decided what problem they are going to ad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B1FF-0978-42B8-96E7-420BFE024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AGREE ON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one disagrees they are asked to write their reasons, and present them to the clas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ON: 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game that allows kids to express their feelings about how their ideas were received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100_0300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0DCB-2B80-4319-BB47-5A920FF55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Step 4:  DEVELOP A PLA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item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and meet with partner…the children have practiced phone skill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permanent chart that shows a timelin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roups, predict the 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als, organization, </a:t>
            </a:r>
            <a:r>
              <a:rPr b="0" i="1" lang="en-US" sz="3200" spc="-1" strike="noStrike">
                <a:solidFill>
                  <a:srgbClr val="ff3399"/>
                </a:solidFill>
                <a:latin typeface="Arial"/>
              </a:rPr>
              <a:t>PROACTIV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F78F-9BF5-4711-8CAD-02D4CBF0D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ALER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DO NOT OFFER TO SOLVE PROBLEMS.  THE CHILDREN NEED TO BE RESPONSIBLE FOR TROUBLESHOO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100_0754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7E52-549A-4763-A314-961A9903A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STEP 5:  EXECUTE THE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: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ion and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, GO, GO ….don’t hold them ba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go…even if things don’t look per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our service learning:  college bound, Veteran’s day, community pride video, lemonade stand, fund-raising, create a library, M.L.K. activities, project Christm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82A7-5C85-4668-A29C-994FC841C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KIDS CAN MAKE A DIF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100_0050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100_007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2FBB-F074-4829-A9FD-F3006F6E5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Look at the LEADERS Model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99"/>
                </a:solidFill>
                <a:uFillTx/>
                <a:latin typeface="Arial"/>
              </a:rPr>
              <a:t>#1</a:t>
            </a:r>
            <a:r>
              <a:rPr b="1" lang="en-US" sz="3200" spc="-1" strike="noStrike" u="sng">
                <a:solidFill>
                  <a:srgbClr val="ff3399"/>
                </a:solidFill>
                <a:uFillTx/>
                <a:latin typeface="Arial"/>
              </a:rPr>
              <a:t> RULE of Service Learning…NEVER, NEVER, NEVER PUT WORDS IN THEIR MOUTHS! Put words in their brain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student leadership, and voice at every st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ower them with vocabulary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active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cial, Civic, Environ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tees work well and offer more kids the chance to lea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360C-2CFE-42BE-BDFE-00EFB1DF9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STEP 6:  REVIEW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: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ta, results, conclusion,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and organize not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THANK YOU NOT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PROBLEM-SOLUTION chart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he committees complete charts and compare them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7370-DFCD-4AB1-A26C-409731F09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REVIEW OUTCOM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 with community partne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d-designed evaluation of their work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d-designed self-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ON IS FUN TIM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Get your hands on a karaoke machine…encourage each child to give a speech about their experiences with service- learning for th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A4D4-53D9-4BCC-B395-D6F363C57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STEP 7:  SHOWCAS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ne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…to involve others…not promote oursel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ne on 4 levels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chool, district, community and region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ION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you proud o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your favorite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102_0728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5AF4-5388-4B4A-8C97-CDC0C753F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100_0435"/>
          <p:cNvPicPr/>
          <p:nvPr/>
        </p:nvPicPr>
        <p:blipFill>
          <a:blip r:embed="rId1"/>
          <a:stretch/>
        </p:blipFill>
        <p:spPr>
          <a:xfrm>
            <a:off x="3886200" y="20574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DF38-C99A-4943-91DD-D293611FE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CLOSING REMINDE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Empower, Inspire and STRI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T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ke them feel safe to fai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100_1233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3BE8-2EDA-4F0A-8120-2A2E71035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PREPA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 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kids by mixed-abilities into committees:  advertising, public relations, financial,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inspiring children’s 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k about your community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veys, surveys, 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s to prepare…research public service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00_0046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9EE8-8161-4FF4-9E2E-1541978D6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STEP 1:  LOOK AND LISTEN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INSTORM!!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care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worry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you interested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felt like you wanted to help someone or something?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DEFINE APATHY AND EMPATHY…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BD12-AD64-474B-B623-963581ECB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LOOK AND LISTEN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k it out, walking tours with different them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ivic, social, and environmental tours..take the same walk with 3 different themes. You get 3 different view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ty Speaker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parents…they can share their voice, read to the kids, or lead them in a short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8A2A-68D8-4A28-BB5D-A59ADB81D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LOOK AND LISTEN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research:  Yahooligans, particularly good for environmental projects, i.e. BONNIE’S CABBAG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newspapers are great!  Group them and allow them to become detectives or superheroes!  (make cape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100_0077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4E4B-7826-4215-8C96-3B47B2E1F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Reflecting on Looking/List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952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 all your inform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tart their notebook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, Write, Wri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 is a great reflection tool….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Paint a perfect world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BRAG notebook to be kept qui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MCj04326080000[1]"/>
          <p:cNvPicPr/>
          <p:nvPr/>
        </p:nvPicPr>
        <p:blipFill>
          <a:blip r:embed="rId1"/>
          <a:stretch/>
        </p:blipFill>
        <p:spPr>
          <a:xfrm rot="367800">
            <a:off x="6248160" y="358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21CA-9161-4347-B678-4D37E1231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:  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Examin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ine, survey, explore, analyze, categoriz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problem/solution using a graphic organiz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all your information into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“phone book” for the class to refer to when needing to contact community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1E2D-86CF-4D3C-8659-D8A52E8A8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Examine Issue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…teaching kids how to think and why thinking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ere you as a teacher are really introducing the concept of student 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portfolio topics are a great way for students to share their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c and think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, DROP, and THIN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5:31:26Z</dcterms:created>
  <dc:creator>pittsburg elem</dc:creator>
  <dc:description/>
  <dc:language>en-US</dc:language>
  <cp:lastModifiedBy>Scott Ganske</cp:lastModifiedBy>
  <dcterms:modified xsi:type="dcterms:W3CDTF">2011-06-17T16:31:13Z</dcterms:modified>
  <cp:revision>56</cp:revision>
  <dc:subject/>
  <dc:title>Elementary Kids and Student Voice</dc:title>
</cp:coreProperties>
</file>